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BC1-46C6-4775-83C7-2538D612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EA3-A17B-4964-8684-6B124543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269-9656-4918-AE69-333D1D77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AC4-63DB-46A7-B5C8-40BA963F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65D-50C5-40C2-B4E9-2E4C7C88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CC8-E3D5-4F21-8A66-84DB175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C1E-77A7-4B9B-A907-0ACC2BE0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F5A-1255-47B7-BEB5-FB11691F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D6A-B816-4C52-B4F3-23B62A63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A16-B0B2-4D2C-A1C6-E65A4CC2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996-FFB3-485C-8C4C-ED4BBA0D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0F2-645C-4C2F-93FF-8B3234CE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9192-9173-4108-AD57-F6AC06E95B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714240"/>
            <a:ext cx="2643120" cy="301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4500720"/>
            <a:ext cx="2125800" cy="199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880" y="3786120"/>
            <a:ext cx="2351160" cy="245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tbn0.google.com/images?q=tbn:CcgQhy2MHcUoBM:http://www.granjasdeluruguay.com.uy/materiales/verduras-0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57880" y="314316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tbn0.google.com/images?q=tbn:I4KwKBNfdBz16M:http://www.mygomera.de/fotos/04-09-17_fischer/pescados_800.jpg"/>
          <p:cNvPicPr/>
          <p:nvPr/>
        </p:nvPicPr>
        <p:blipFill>
          <a:blip r:embed="rId9"/>
          <a:stretch/>
        </p:blipFill>
        <p:spPr>
          <a:xfrm>
            <a:off x="3500280" y="785880"/>
            <a:ext cx="2508480" cy="187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tbn2.google.com/images?q=tbn:bHH-147IeshnpM:http://bp2.blogger.com/_EVfrzn4abyg/SIPwI-QeI5I/AAAAAAAAABE/iRWTloSv40U/s400/69.jpg"/>
          <p:cNvPicPr/>
          <p:nvPr/>
        </p:nvPicPr>
        <p:blipFill>
          <a:blip r:embed="rId10"/>
          <a:stretch/>
        </p:blipFill>
        <p:spPr>
          <a:xfrm>
            <a:off x="2714760" y="3786120"/>
            <a:ext cx="1928520" cy="144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rne sana"/>
          <p:cNvPicPr/>
          <p:nvPr/>
        </p:nvPicPr>
        <p:blipFill>
          <a:blip r:embed="rId11"/>
          <a:stretch/>
        </p:blipFill>
        <p:spPr>
          <a:xfrm>
            <a:off x="785880" y="1857240"/>
            <a:ext cx="2592360" cy="1954440"/>
          </a:xfrm>
          <a:prstGeom prst="rect">
            <a:avLst/>
          </a:prstGeom>
          <a:ln w="0">
            <a:noFill/>
          </a:ln>
        </p:spPr>
      </p:pic>
      <p:sp>
        <p:nvSpPr>
          <p:cNvPr id="48" name="10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ANd9GcSKID_fqN0x19q6BOqvGOSMTNEoSZqVAzYg8lIN-PnuUV8RjeQJ"/>
          <p:cNvPicPr/>
          <p:nvPr/>
        </p:nvPicPr>
        <p:blipFill>
          <a:blip r:embed="rId12"/>
          <a:stretch/>
        </p:blipFill>
        <p:spPr>
          <a:xfrm>
            <a:off x="6929280" y="4572000"/>
            <a:ext cx="1378080" cy="2033640"/>
          </a:xfrm>
          <a:prstGeom prst="rect">
            <a:avLst/>
          </a:prstGeom>
          <a:ln w="0">
            <a:noFill/>
          </a:ln>
        </p:spPr>
      </p:pic>
      <p:sp>
        <p:nvSpPr>
          <p:cNvPr id="50" name="16 Rectángulo"/>
          <p:cNvSpPr/>
          <p:nvPr/>
        </p:nvSpPr>
        <p:spPr>
          <a:xfrm>
            <a:off x="214200" y="857160"/>
            <a:ext cx="87156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Bolilla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VITAMIN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opiedades generales. Clasificación: Vitaminas liposolubles e hidrosolubles. Estructura química. Papel funcional de las vitaminas. Provitaminas. Metabolismo. Bioquímica de las avitamin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MINERALES: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rincipales componentes minerales del organismo. Ubicación celular. Requerimientos. Absorción. Funciones. Homeostasis.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7030a0"/>
                </a:solidFill>
                <a:latin typeface="Arial"/>
              </a:rPr>
              <a:t>CLOR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5111640" y="141300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UID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716360" y="3789360"/>
            <a:ext cx="4176720" cy="21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102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q.cefalorraqu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cr. gastrointestil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24000" y="5300640"/>
            <a:ext cx="38890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5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https://encrypted-tbn2.gstatic.com/images?q=tbn:ANd9GcQeCLb2GigCBT3g_-X8x0UxRJPj-Pm4M4qJgSqCvpUd9mtuwkSL"/>
          <p:cNvPicPr/>
          <p:nvPr/>
        </p:nvPicPr>
        <p:blipFill>
          <a:blip r:embed="rId1"/>
          <a:stretch/>
        </p:blipFill>
        <p:spPr>
          <a:xfrm>
            <a:off x="571680" y="1571760"/>
            <a:ext cx="3971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FUNCIONES DE LOS IONES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de la presión osmótica del líquido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ducción de CLH  en estóm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95280" y="5373720"/>
            <a:ext cx="84963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INGRESA CONJUNTAMENTE CON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ELIMINACION DE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556000" y="342900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780000" y="350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627280" y="4581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635280" y="4437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2484360" y="220500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4284720" y="1989000"/>
            <a:ext cx="36003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Arial"/>
              </a:rPr>
              <a:t>POTAS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4932360" y="319896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UIDO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0920" y="1628640"/>
            <a:ext cx="403380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36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292720" y="5829480"/>
            <a:ext cx="3384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Extracelular  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95280" y="4130640"/>
            <a:ext cx="4032360" cy="1584360"/>
          </a:xfrm>
          <a:prstGeom prst="ellipse">
            <a:avLst/>
          </a:prstGeom>
          <a:solidFill>
            <a:srgbClr val="2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MBA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 flipV="1">
            <a:off x="4500720" y="4279680"/>
            <a:ext cx="502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500720" y="5280120"/>
            <a:ext cx="718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85880" y="6143760"/>
            <a:ext cx="3384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4-5,5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https://encrypted-tbn2.gstatic.com/images?q=tbn:ANd9GcTdTuGe47jatmdQ8oKRaHmsH8QyJnxmUQEUYKFfxHjVvumTTIF3"/>
          <p:cNvPicPr/>
          <p:nvPr/>
        </p:nvPicPr>
        <p:blipFill>
          <a:blip r:embed="rId1"/>
          <a:stretch/>
        </p:blipFill>
        <p:spPr>
          <a:xfrm>
            <a:off x="5357880" y="1143000"/>
            <a:ext cx="29289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UNCIONES DE LOS IONES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3700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metabolismo celular (regul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ntenimiento de potencial de membranas en rep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a presión osmótica del líquido intra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quilibrio hidroeléc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26920" y="5805360"/>
            <a:ext cx="7921800" cy="947160"/>
          </a:xfrm>
          <a:prstGeom prst="rect">
            <a:avLst/>
          </a:prstGeom>
          <a:solidFill>
            <a:srgbClr val="f8e6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LA ABSORCION DE K</a:t>
            </a:r>
            <a:r>
              <a:rPr b="1" lang="es-ES_tradnl" sz="2800" spc="-1" strike="noStrike" baseline="30000">
                <a:solidFill>
                  <a:srgbClr val="3333ff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 SE REALIZA A NIVEL 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UENTES NATURALES DE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5256000" cy="125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LA MAYORIA DE LOS ALIMENTOS FRES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&gt;&gt; BANANAS,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55640" y="3789360"/>
            <a:ext cx="6624720" cy="520560"/>
          </a:xfrm>
          <a:prstGeom prst="rect">
            <a:avLst/>
          </a:prstGeom>
          <a:solidFill>
            <a:srgbClr val="2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esta diaria recomendada: 5 grs.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"/>
          <p:cNvSpPr/>
          <p:nvPr/>
        </p:nvSpPr>
        <p:spPr>
          <a:xfrm>
            <a:off x="468360" y="4797360"/>
            <a:ext cx="1800000" cy="144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2484360" y="4724280"/>
            <a:ext cx="1008000" cy="798840"/>
            <a:chOff x="2484360" y="4724280"/>
            <a:chExt cx="1008000" cy="798840"/>
          </a:xfrm>
        </p:grpSpPr>
        <p:sp>
          <p:nvSpPr>
            <p:cNvPr id="148" name="AutoShape 6"/>
            <p:cNvSpPr/>
            <p:nvPr/>
          </p:nvSpPr>
          <p:spPr>
            <a:xfrm>
              <a:off x="2484360" y="472428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2844720" y="4941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2484000" y="5656320"/>
            <a:ext cx="1368720" cy="798840"/>
            <a:chOff x="2484000" y="5656320"/>
            <a:chExt cx="1368720" cy="798840"/>
          </a:xfrm>
        </p:grpSpPr>
        <p:sp>
          <p:nvSpPr>
            <p:cNvPr id="151" name="AutoShape 10"/>
            <p:cNvSpPr/>
            <p:nvPr/>
          </p:nvSpPr>
          <p:spPr>
            <a:xfrm rot="10800000">
              <a:off x="2484000" y="5656320"/>
              <a:ext cx="431640" cy="792000"/>
            </a:xfrm>
            <a:prstGeom prst="upArrow">
              <a:avLst>
                <a:gd name="adj1" fmla="val 50000"/>
                <a:gd name="adj2" fmla="val 45872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2844720" y="58737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12"/>
          <p:cNvSpPr/>
          <p:nvPr/>
        </p:nvSpPr>
        <p:spPr>
          <a:xfrm>
            <a:off x="3995640" y="4869000"/>
            <a:ext cx="4822920" cy="1381680"/>
          </a:xfrm>
          <a:prstGeom prst="rect">
            <a:avLst/>
          </a:prstGeom>
          <a:solidFill>
            <a:srgbClr val="fde7e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IENEN ENFERMEDADES CARDIOVAS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VASODILATAC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9" descr="https://encrypted-tbn2.gstatic.com/images?q=tbn:ANd9GcQHXA-Uc8qwUwBCWGR8GfPVu8YB7F_V_QPyU3EFMEEQJg3WzhOzKQ"/>
          <p:cNvPicPr/>
          <p:nvPr/>
        </p:nvPicPr>
        <p:blipFill>
          <a:blip r:embed="rId1"/>
          <a:stretch/>
        </p:blipFill>
        <p:spPr>
          <a:xfrm>
            <a:off x="5756400" y="1428840"/>
            <a:ext cx="31734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922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GULACION DE POTASIO POR CATECOLAMINAS 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(Adrenalina y Noradrenal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349360"/>
            <a:ext cx="3097440" cy="3384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1763640" y="4292640"/>
            <a:ext cx="1008000" cy="798840"/>
            <a:chOff x="1763640" y="4292640"/>
            <a:chExt cx="1008000" cy="798840"/>
          </a:xfrm>
        </p:grpSpPr>
        <p:sp>
          <p:nvSpPr>
            <p:cNvPr id="160" name="AutoShape 5"/>
            <p:cNvSpPr/>
            <p:nvPr/>
          </p:nvSpPr>
          <p:spPr>
            <a:xfrm>
              <a:off x="1763640" y="429264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"/>
            <p:cNvSpPr/>
            <p:nvPr/>
          </p:nvSpPr>
          <p:spPr>
            <a:xfrm>
              <a:off x="2124000" y="4510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7"/>
          <p:cNvSpPr/>
          <p:nvPr/>
        </p:nvSpPr>
        <p:spPr>
          <a:xfrm rot="10800000">
            <a:off x="3492360" y="170028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708360" y="191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219640" y="2970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4427640" y="249228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3850920" y="340200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4500720" y="3475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1835280" y="278136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219640" y="4554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4427640" y="407664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H="1">
            <a:off x="3850920" y="49863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4500720" y="5059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GULACION DE POTASIO POR INSUL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1187280" y="1700280"/>
            <a:ext cx="3097440" cy="3384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1763640" y="3573360"/>
            <a:ext cx="1008000" cy="798840"/>
            <a:chOff x="1763640" y="3573360"/>
            <a:chExt cx="1008000" cy="798840"/>
          </a:xfrm>
        </p:grpSpPr>
        <p:sp>
          <p:nvSpPr>
            <p:cNvPr id="176" name="AutoShape 8"/>
            <p:cNvSpPr/>
            <p:nvPr/>
          </p:nvSpPr>
          <p:spPr>
            <a:xfrm>
              <a:off x="1763640" y="357336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2124000" y="37908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AutoShape 11"/>
          <p:cNvSpPr/>
          <p:nvPr/>
        </p:nvSpPr>
        <p:spPr>
          <a:xfrm rot="10800000">
            <a:off x="3924360" y="1125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4140360" y="1198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364000" y="2900520"/>
            <a:ext cx="273708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4788000" y="234936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 flipH="1">
            <a:off x="3850920" y="33321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500720" y="34052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4500720" y="4654440"/>
            <a:ext cx="502920" cy="505080"/>
          </a:xfrm>
          <a:prstGeom prst="ellipse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5651640" y="4149720"/>
            <a:ext cx="2592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-K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5651640" y="4797360"/>
            <a:ext cx="2808000" cy="94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transportador     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835280" y="206208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5148360" y="4005360"/>
            <a:ext cx="431640" cy="19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900000" y="12682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11280" y="6021360"/>
            <a:ext cx="7129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: Ingreso K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hiperca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111640" y="314172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 OSEO Y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716360" y="5373720"/>
            <a:ext cx="417672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5 mEq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24000" y="5300640"/>
            <a:ext cx="43192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50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5796000" y="1342080"/>
            <a:ext cx="2809440" cy="1331280"/>
            <a:chOff x="5796000" y="1342080"/>
            <a:chExt cx="2809440" cy="1331280"/>
          </a:xfrm>
        </p:grpSpPr>
        <p:pic>
          <p:nvPicPr>
            <p:cNvPr id="196" name="Picture 8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 rot="16200000">
              <a:off x="6575760" y="6436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9"/>
            <p:cNvSpPr/>
            <p:nvPr/>
          </p:nvSpPr>
          <p:spPr>
            <a:xfrm rot="16200000">
              <a:off x="7113600" y="2211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 rot="16200000">
              <a:off x="7206480" y="114696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2" descr="https://encrypted-tbn1.gstatic.com/images?q=tbn:ANd9GcTh3Qvf1EYaPQDw9Yr06uTVd1wZAGrdm-r6U7fQmu2V8jymtP-d7w"/>
          <p:cNvPicPr/>
          <p:nvPr/>
        </p:nvPicPr>
        <p:blipFill>
          <a:blip r:embed="rId2"/>
          <a:stretch/>
        </p:blipFill>
        <p:spPr>
          <a:xfrm>
            <a:off x="285840" y="1228680"/>
            <a:ext cx="4562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FUNCIONES DEL 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neralización de huesos y 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gundo mensaj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citabilidad  nervi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agulación de la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https://encrypted-tbn3.gstatic.com/images?q=tbn:ANd9GcT1nB0xJtPIiNaEz6p6q1-N9a09JX9ZmlsZudzO7mSk0MsYDVfFbw"/>
          <p:cNvPicPr/>
          <p:nvPr/>
        </p:nvPicPr>
        <p:blipFill>
          <a:blip r:embed="rId1"/>
          <a:stretch/>
        </p:blipFill>
        <p:spPr>
          <a:xfrm>
            <a:off x="7072200" y="1857240"/>
            <a:ext cx="1571760" cy="1177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https://encrypted-tbn2.gstatic.com/images?q=tbn:ANd9GcSnLzhpTIn6B_kgiTEfASGAyDrB3gd5x_ws2Tjd9bUCVRCzz6WBrQ"/>
          <p:cNvPicPr/>
          <p:nvPr/>
        </p:nvPicPr>
        <p:blipFill>
          <a:blip r:embed="rId2"/>
          <a:stretch/>
        </p:blipFill>
        <p:spPr>
          <a:xfrm>
            <a:off x="5214960" y="2143080"/>
            <a:ext cx="1501920" cy="175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https://encrypted-tbn1.gstatic.com/images?q=tbn:ANd9GcSF3LujK623MQL9EsVTXYFVnI5sdMlk9kc8qOVVLN3EkKRvau1soA"/>
          <p:cNvPicPr/>
          <p:nvPr/>
        </p:nvPicPr>
        <p:blipFill>
          <a:blip r:embed="rId3"/>
          <a:stretch/>
        </p:blipFill>
        <p:spPr>
          <a:xfrm>
            <a:off x="6891480" y="3500280"/>
            <a:ext cx="18954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19280" y="189000"/>
            <a:ext cx="648180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9280" y="981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ASIFICACION DE LOS 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293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293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293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156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156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baseline="10000">
                <a:solidFill>
                  <a:srgbClr val="c00000"/>
                </a:solidFill>
                <a:latin typeface="Arial"/>
              </a:rPr>
              <a:t>MINE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156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2400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572000" y="25495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FUENTES NATURALES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207880"/>
            <a:ext cx="619128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ECHE Y SUS DERI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24000" y="3701880"/>
            <a:ext cx="8820000" cy="3115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350-55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1-10 años): 8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olescentes, embarazo y lactanc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.2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8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https://encrypted-tbn2.gstatic.com/images?q=tbn:ANd9GcTNMBkj5tJvLU9Bl3CFiadTAlyfvC9jQpSsNyXsMw2G8aHLZvvbDg"/>
          <p:cNvPicPr/>
          <p:nvPr/>
        </p:nvPicPr>
        <p:blipFill>
          <a:blip r:embed="rId1"/>
          <a:stretch/>
        </p:blipFill>
        <p:spPr>
          <a:xfrm>
            <a:off x="6072120" y="1643040"/>
            <a:ext cx="2979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ABSOR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00000" y="3281400"/>
            <a:ext cx="1344600" cy="1871640"/>
            <a:chOff x="900000" y="3281400"/>
            <a:chExt cx="1344600" cy="1871640"/>
          </a:xfrm>
        </p:grpSpPr>
        <p:sp>
          <p:nvSpPr>
            <p:cNvPr id="211" name="Freeform 4"/>
            <p:cNvSpPr/>
            <p:nvPr/>
          </p:nvSpPr>
          <p:spPr>
            <a:xfrm>
              <a:off x="900000" y="328140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1163520" y="328932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 rot="19789800">
            <a:off x="684720" y="493668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 flipH="1">
            <a:off x="1657440" y="2705040"/>
            <a:ext cx="1296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1258920" y="184140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4570560" y="1625760"/>
            <a:ext cx="3384360" cy="15721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 (+)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USION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4500720" y="4869000"/>
            <a:ext cx="1800000" cy="433080"/>
          </a:xfrm>
          <a:prstGeom prst="rightArrow">
            <a:avLst>
              <a:gd name="adj1" fmla="val 50000"/>
              <a:gd name="adj2" fmla="val 103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6443640" y="422100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QUIDO INTERST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5"/>
          <p:cNvSpPr/>
          <p:nvPr/>
        </p:nvSpPr>
        <p:spPr>
          <a:xfrm>
            <a:off x="4500720" y="5373720"/>
            <a:ext cx="143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O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 rot="2503800">
            <a:off x="3562920" y="3860280"/>
            <a:ext cx="2376360" cy="459720"/>
          </a:xfrm>
          <a:prstGeom prst="rect">
            <a:avLst/>
          </a:prstGeom>
          <a:solidFill>
            <a:srgbClr val="eb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-Calbin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7"/>
          <p:cNvSpPr/>
          <p:nvPr/>
        </p:nvSpPr>
        <p:spPr>
          <a:xfrm>
            <a:off x="6227640" y="3645000"/>
            <a:ext cx="166680" cy="26636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0"/>
          <p:cNvGrpSpPr/>
          <p:nvPr/>
        </p:nvGrpSpPr>
        <p:grpSpPr>
          <a:xfrm>
            <a:off x="3635280" y="3860640"/>
            <a:ext cx="720720" cy="936720"/>
            <a:chOff x="3635280" y="3860640"/>
            <a:chExt cx="720720" cy="936720"/>
          </a:xfrm>
        </p:grpSpPr>
        <p:sp>
          <p:nvSpPr>
            <p:cNvPr id="224" name="Oval 18"/>
            <p:cNvSpPr/>
            <p:nvPr/>
          </p:nvSpPr>
          <p:spPr>
            <a:xfrm>
              <a:off x="3635280" y="3933720"/>
              <a:ext cx="720720" cy="863640"/>
            </a:xfrm>
            <a:prstGeom prst="ellipse">
              <a:avLst/>
            </a:prstGeom>
            <a:solidFill>
              <a:srgbClr val="ec372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3781440" y="3860640"/>
              <a:ext cx="503280" cy="648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Oval 21"/>
          <p:cNvSpPr/>
          <p:nvPr/>
        </p:nvSpPr>
        <p:spPr>
          <a:xfrm>
            <a:off x="7380360" y="5516640"/>
            <a:ext cx="1008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6588000" y="3429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mbrana se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 flipH="1">
            <a:off x="6372360" y="371628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REGULACION DE LA ABSORCION DE CALCIO EN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611280" y="2133720"/>
            <a:ext cx="302400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CI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539640" y="4365720"/>
            <a:ext cx="3024360" cy="19429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FI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OXA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780000" y="2565360"/>
            <a:ext cx="1296720" cy="432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3851280" y="5157720"/>
            <a:ext cx="1297080" cy="43200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219640" y="2060640"/>
            <a:ext cx="3240000" cy="94716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N LA ABSOR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292720" y="4941720"/>
            <a:ext cx="3240000" cy="1595880"/>
          </a:xfrm>
          <a:prstGeom prst="rect">
            <a:avLst/>
          </a:prstGeom>
          <a:solidFill>
            <a:srgbClr val="ea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ALES INSOL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elimin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CALCIO EN EL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00000" y="2708280"/>
            <a:ext cx="34560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iónico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00000" y="3645000"/>
            <a:ext cx="540072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unido a proteínas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900000" y="4869000"/>
            <a:ext cx="547236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no ionizable en forma de sales no disociables 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1"/>
          <p:cNvGrpSpPr/>
          <p:nvPr/>
        </p:nvGrpSpPr>
        <p:grpSpPr>
          <a:xfrm>
            <a:off x="4356000" y="1628640"/>
            <a:ext cx="4392720" cy="1943280"/>
            <a:chOff x="4356000" y="1628640"/>
            <a:chExt cx="4392720" cy="1943280"/>
          </a:xfrm>
        </p:grpSpPr>
        <p:sp>
          <p:nvSpPr>
            <p:cNvPr id="241" name="Oval 9"/>
            <p:cNvSpPr/>
            <p:nvPr/>
          </p:nvSpPr>
          <p:spPr>
            <a:xfrm>
              <a:off x="5796000" y="1628640"/>
              <a:ext cx="2952720" cy="194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ORMA ACTIV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>
              <a:off x="4356000" y="2924280"/>
              <a:ext cx="1440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ELIMINA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8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&lt;&lt;&lt; 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C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2700360" y="1916280"/>
            <a:ext cx="1584360" cy="433080"/>
          </a:xfrm>
          <a:prstGeom prst="rightArrow">
            <a:avLst>
              <a:gd name="adj1" fmla="val 50000"/>
              <a:gd name="adj2" fmla="val 914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4427640" y="1484280"/>
            <a:ext cx="3673440" cy="165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filtra el 60%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absorbe el 5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2843280" y="1197000"/>
            <a:ext cx="33130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. PARATIRO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50920" y="3284640"/>
            <a:ext cx="259236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,25 (OH)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826920" y="177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[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68360" y="1268280"/>
            <a:ext cx="287280" cy="960480"/>
          </a:xfrm>
          <a:prstGeom prst="downArrow">
            <a:avLst>
              <a:gd name="adj1" fmla="val 50000"/>
              <a:gd name="adj2" fmla="val 8358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2050920" y="1773360"/>
            <a:ext cx="720720" cy="179280"/>
          </a:xfrm>
          <a:custGeom>
            <a:avLst/>
            <a:gdLst>
              <a:gd name="textAreaLeft" fmla="*/ 126000 w 720720"/>
              <a:gd name="textAreaRight" fmla="*/ 522720 w 72072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6443640" y="1413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vilización    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1"/>
          <p:cNvGrpSpPr/>
          <p:nvPr/>
        </p:nvGrpSpPr>
        <p:grpSpPr>
          <a:xfrm>
            <a:off x="8317080" y="1844640"/>
            <a:ext cx="629640" cy="1746360"/>
            <a:chOff x="8317080" y="1844640"/>
            <a:chExt cx="629640" cy="1746360"/>
          </a:xfrm>
        </p:grpSpPr>
        <p:pic>
          <p:nvPicPr>
            <p:cNvPr id="255" name="Picture 12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8317080" y="184464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3"/>
            <p:cNvSpPr/>
            <p:nvPr/>
          </p:nvSpPr>
          <p:spPr>
            <a:xfrm>
              <a:off x="8317080" y="254268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"/>
            <p:cNvSpPr/>
            <p:nvPr/>
          </p:nvSpPr>
          <p:spPr>
            <a:xfrm>
              <a:off x="8820720" y="26002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3564000" y="4509000"/>
            <a:ext cx="1746360" cy="629640"/>
            <a:chOff x="3564000" y="4509000"/>
            <a:chExt cx="1746360" cy="629640"/>
          </a:xfrm>
        </p:grpSpPr>
        <p:pic>
          <p:nvPicPr>
            <p:cNvPr id="259" name="Picture 16" descr="metabolismo del Ca"/>
            <p:cNvPicPr/>
            <p:nvPr/>
          </p:nvPicPr>
          <p:blipFill>
            <a:blip r:embed="rId2"/>
            <a:srcRect l="70378" t="38198" r="23655" b="36340"/>
            <a:stretch/>
          </p:blipFill>
          <p:spPr>
            <a:xfrm rot="16200000">
              <a:off x="4141440" y="396972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7"/>
            <p:cNvSpPr/>
            <p:nvPr/>
          </p:nvSpPr>
          <p:spPr>
            <a:xfrm rot="16200000">
              <a:off x="4402800" y="487152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8"/>
            <p:cNvSpPr/>
            <p:nvPr/>
          </p:nvSpPr>
          <p:spPr>
            <a:xfrm rot="16200000">
              <a:off x="4460400" y="43678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9"/>
          <p:cNvGrpSpPr/>
          <p:nvPr/>
        </p:nvGrpSpPr>
        <p:grpSpPr>
          <a:xfrm>
            <a:off x="3924360" y="3357720"/>
            <a:ext cx="576000" cy="939600"/>
            <a:chOff x="3924360" y="3357720"/>
            <a:chExt cx="576000" cy="939600"/>
          </a:xfrm>
        </p:grpSpPr>
        <p:sp>
          <p:nvSpPr>
            <p:cNvPr id="263" name="Freeform 20"/>
            <p:cNvSpPr/>
            <p:nvPr/>
          </p:nvSpPr>
          <p:spPr>
            <a:xfrm>
              <a:off x="3924360" y="3357720"/>
              <a:ext cx="514440" cy="93960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4037040" y="3361680"/>
              <a:ext cx="463320" cy="8672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2"/>
          <p:cNvSpPr/>
          <p:nvPr/>
        </p:nvSpPr>
        <p:spPr>
          <a:xfrm>
            <a:off x="4932360" y="3213000"/>
            <a:ext cx="1800360" cy="1015920"/>
          </a:xfrm>
          <a:prstGeom prst="rect">
            <a:avLst/>
          </a:prstGeom>
          <a:solidFill>
            <a:srgbClr val="888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5651640" y="4365720"/>
            <a:ext cx="2520720" cy="1015920"/>
          </a:xfrm>
          <a:prstGeom prst="rect">
            <a:avLst/>
          </a:prstGeom>
          <a:solidFill>
            <a:srgbClr val="888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250920" y="5084640"/>
            <a:ext cx="259236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>
            <a:off x="2916360" y="58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 flipV="1">
            <a:off x="3059280" y="3644640"/>
            <a:ext cx="79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>
            <a:off x="3059280" y="4149720"/>
            <a:ext cx="50472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9"/>
          <p:cNvSpPr/>
          <p:nvPr/>
        </p:nvSpPr>
        <p:spPr>
          <a:xfrm>
            <a:off x="5292720" y="4869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3924360" y="5661000"/>
            <a:ext cx="44640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hiben la resorción ó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IERR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OBLOBI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OGLO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CR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TEINAS Fe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ALASAS Y PEROXID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543640" y="191628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140360" y="306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e</a:t>
            </a:r>
            <a:r>
              <a:rPr b="1" lang="es-ES_tradnl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211640" y="458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iminacio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3780000" y="544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5003640" y="1700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4067280" y="2852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3203640" y="5661000"/>
            <a:ext cx="7207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IERRO</a:t>
            </a: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ENTE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" y="1285560"/>
            <a:ext cx="822960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IMENTOS DE ORIGEN ANIMAL Y 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81080" y="3413160"/>
            <a:ext cx="8820000" cy="181800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uplementos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y Adul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8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barazada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&gt;  18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250920" y="5348160"/>
            <a:ext cx="2376360" cy="129564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érdida de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3419640" y="5270400"/>
            <a:ext cx="5327640" cy="1595880"/>
          </a:xfrm>
          <a:prstGeom prst="rect">
            <a:avLst/>
          </a:prstGeom>
          <a:solidFill>
            <a:srgbClr val="d75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ambio cél. Intestinales y epitel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nstr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2771640" y="592596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https://bellezadesalud.files.wordpress.com/2012/05/vegetales-hoja-verde-oscura-lavidale.jpeg"/>
          <p:cNvPicPr/>
          <p:nvPr/>
        </p:nvPicPr>
        <p:blipFill>
          <a:blip r:embed="rId1"/>
          <a:stretch/>
        </p:blipFill>
        <p:spPr>
          <a:xfrm>
            <a:off x="7107120" y="1571760"/>
            <a:ext cx="1809720" cy="1785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http://thumbs.dreamstime.com/x/iron-rich-foods-19497368.jpg"/>
          <p:cNvPicPr/>
          <p:nvPr/>
        </p:nvPicPr>
        <p:blipFill>
          <a:blip r:embed="rId2"/>
          <a:stretch/>
        </p:blipFill>
        <p:spPr>
          <a:xfrm>
            <a:off x="5357880" y="1714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4"/>
          <p:cNvSpPr/>
          <p:nvPr/>
        </p:nvSpPr>
        <p:spPr>
          <a:xfrm>
            <a:off x="0" y="4797360"/>
            <a:ext cx="4284720" cy="2060640"/>
          </a:xfrm>
          <a:prstGeom prst="rect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HI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727920" y="2530080"/>
            <a:ext cx="1661760" cy="2093400"/>
            <a:chOff x="727920" y="2530080"/>
            <a:chExt cx="1661760" cy="2093400"/>
          </a:xfrm>
        </p:grpSpPr>
        <p:sp>
          <p:nvSpPr>
            <p:cNvPr id="293" name="Freeform 4"/>
            <p:cNvSpPr/>
            <p:nvPr/>
          </p:nvSpPr>
          <p:spPr>
            <a:xfrm rot="20914200">
              <a:off x="901440" y="265140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 rot="20914200">
              <a:off x="1148040" y="261972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6"/>
          <p:cNvSpPr/>
          <p:nvPr/>
        </p:nvSpPr>
        <p:spPr>
          <a:xfrm rot="19789800">
            <a:off x="1259280" y="3789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 flipH="1">
            <a:off x="2195280" y="2997360"/>
            <a:ext cx="541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8"/>
          <p:cNvSpPr/>
          <p:nvPr/>
        </p:nvSpPr>
        <p:spPr>
          <a:xfrm>
            <a:off x="1116000" y="162864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570560" y="1625760"/>
            <a:ext cx="3384360" cy="1015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él.borde cepi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>
            <a:off x="3635280" y="3500280"/>
            <a:ext cx="302436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6804000" y="3645000"/>
            <a:ext cx="79236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>
            <a:off x="6732720" y="5157720"/>
            <a:ext cx="1657080" cy="115272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+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>
            <a:off x="5003640" y="357336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6"/>
          <p:cNvSpPr/>
          <p:nvPr/>
        </p:nvSpPr>
        <p:spPr>
          <a:xfrm>
            <a:off x="3708360" y="422100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7"/>
          <p:cNvSpPr/>
          <p:nvPr/>
        </p:nvSpPr>
        <p:spPr>
          <a:xfrm>
            <a:off x="5148360" y="4941720"/>
            <a:ext cx="12952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8"/>
          <p:cNvSpPr/>
          <p:nvPr/>
        </p:nvSpPr>
        <p:spPr>
          <a:xfrm flipH="1">
            <a:off x="4571640" y="429264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9"/>
          <p:cNvSpPr/>
          <p:nvPr/>
        </p:nvSpPr>
        <p:spPr>
          <a:xfrm>
            <a:off x="4427640" y="3789360"/>
            <a:ext cx="360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0"/>
          <p:cNvSpPr/>
          <p:nvPr/>
        </p:nvSpPr>
        <p:spPr>
          <a:xfrm flipH="1">
            <a:off x="3203640" y="5229360"/>
            <a:ext cx="72072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539640" y="5229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po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684360" y="6093000"/>
            <a:ext cx="223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3"/>
          <p:cNvSpPr/>
          <p:nvPr/>
        </p:nvSpPr>
        <p:spPr>
          <a:xfrm>
            <a:off x="1763640" y="57340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5"/>
          <p:cNvSpPr/>
          <p:nvPr/>
        </p:nvSpPr>
        <p:spPr>
          <a:xfrm>
            <a:off x="0" y="4941720"/>
            <a:ext cx="46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  L ASM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6"/>
          <p:cNvSpPr/>
          <p:nvPr/>
        </p:nvSpPr>
        <p:spPr>
          <a:xfrm>
            <a:off x="3851280" y="2887560"/>
            <a:ext cx="2089080" cy="828720"/>
          </a:xfrm>
          <a:prstGeom prst="pie">
            <a:avLst/>
          </a:prstGeom>
          <a:noFill/>
          <a:ln w="3492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8"/>
          <p:cNvSpPr/>
          <p:nvPr/>
        </p:nvSpPr>
        <p:spPr>
          <a:xfrm>
            <a:off x="8101080" y="3645000"/>
            <a:ext cx="79200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9"/>
          <p:cNvSpPr/>
          <p:nvPr/>
        </p:nvSpPr>
        <p:spPr>
          <a:xfrm flipH="1">
            <a:off x="7740720" y="4292640"/>
            <a:ext cx="287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0"/>
          <p:cNvSpPr/>
          <p:nvPr/>
        </p:nvSpPr>
        <p:spPr>
          <a:xfrm>
            <a:off x="7596360" y="3573360"/>
            <a:ext cx="431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1"/>
          <p:cNvSpPr/>
          <p:nvPr/>
        </p:nvSpPr>
        <p:spPr>
          <a:xfrm flipH="1" flipV="1">
            <a:off x="6300720" y="4797000"/>
            <a:ext cx="71928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2"/>
          <p:cNvSpPr/>
          <p:nvPr/>
        </p:nvSpPr>
        <p:spPr>
          <a:xfrm flipH="1">
            <a:off x="6443640" y="4294080"/>
            <a:ext cx="50328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3"/>
          <p:cNvSpPr/>
          <p:nvPr/>
        </p:nvSpPr>
        <p:spPr>
          <a:xfrm>
            <a:off x="4572000" y="494172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4"/>
          <p:cNvSpPr/>
          <p:nvPr/>
        </p:nvSpPr>
        <p:spPr>
          <a:xfrm flipH="1" flipV="1">
            <a:off x="4500360" y="5157360"/>
            <a:ext cx="431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ciencia de Hierro en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88908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emia ferropr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ño prema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284720" y="2205000"/>
            <a:ext cx="4319640" cy="52056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lta carne en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4284720" y="3429000"/>
            <a:ext cx="3960720" cy="103608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posee reser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9308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IOELEMENTOS  </a:t>
            </a: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6160" y="907920"/>
            <a:ext cx="8280360" cy="5950080"/>
          </a:xfrm>
          <a:prstGeom prst="rect">
            <a:avLst/>
          </a:prstGeom>
          <a:solidFill>
            <a:srgbClr val="faed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SECUNDARIOS                       (Ma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LIGOELEMENTOS                          (Mi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CTROL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5364000" y="907920"/>
            <a:ext cx="201636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O, C, H,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5796000" y="2349360"/>
            <a:ext cx="252108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 P, S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5292720" y="4005360"/>
            <a:ext cx="331308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F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F, Cu, I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Zn, Co, Mo, 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r 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3780000" y="5634000"/>
            <a:ext cx="230472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K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326" name="Group 3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327" name="Group 4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328" name="Group 5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329" name="Picture 6" descr="ANd9GcRohrk3WzNfjQ0S1PJH4iY8DTtql8PnjnvEObAfzfZ7-E0CxFv2Tg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0" name="Rectangle 7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8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Rectangle 9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10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MANEJO RENAL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5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339" name="Text Box 16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7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Line 18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5148360" y="2492280"/>
            <a:ext cx="259236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0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344" name="Text Box 21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23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347" name="Text Box 24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6"/>
          <p:cNvSpPr/>
          <p:nvPr/>
        </p:nvSpPr>
        <p:spPr>
          <a:xfrm>
            <a:off x="3492360" y="4292640"/>
            <a:ext cx="54356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(99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 DE SODIO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351" name="Group 3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352" name="Group 4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353" name="Group 5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354" name="Picture 6" descr="ANd9GcRohrk3WzNfjQ0S1PJH4iY8DTtql8PnjnvEObAfzfZ7-E0CxFv2Tg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" name="Rectangle 7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" name="Line 8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Rectangle 9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Rectangle 10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MANEJO RENAL DEL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5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364" name="Text Box 16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Line 18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48360" y="2492280"/>
            <a:ext cx="259236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369" name="Text Box 21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2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3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372" name="Text Box 24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5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26"/>
          <p:cNvSpPr/>
          <p:nvPr/>
        </p:nvSpPr>
        <p:spPr>
          <a:xfrm>
            <a:off x="2987640" y="4292640"/>
            <a:ext cx="5940360" cy="25444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(99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PASIVO PARACELULAR  </a:t>
            </a: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(+ H</a:t>
            </a:r>
            <a:r>
              <a:rPr b="1" lang="es-ES_tradnl" sz="2400" spc="-1" strike="noStrike" baseline="-25000">
                <a:solidFill>
                  <a:srgbClr val="80808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O)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ACTIV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+/K+/2Cl-: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SO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0" y="1844640"/>
            <a:ext cx="4176720" cy="331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q. Extracelular   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acelular            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ues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85840" y="4000680"/>
            <a:ext cx="4071960" cy="116928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20 GRS. TO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427640" y="623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103640" y="5589720"/>
            <a:ext cx="4932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sma: [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]  135-145 mEq/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http://www.radioimagina.cl/wp-content/blogs.dir/103/files/2013/02/running.jpg"/>
          <p:cNvPicPr/>
          <p:nvPr/>
        </p:nvPicPr>
        <p:blipFill>
          <a:blip r:embed="rId1"/>
          <a:stretch/>
        </p:blipFill>
        <p:spPr>
          <a:xfrm>
            <a:off x="357120" y="1285920"/>
            <a:ext cx="2571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FUNCIONES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87487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porte de GLUCOSA y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imiento de la PRESION OSMOTICA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misión neuro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FUENTES NATURALES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L DE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A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11280" y="47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gesta diaria recomenda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&lt; 3 grs.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s://encrypted-tbn0.gstatic.com/images?q=tbn:ANd9GcQj14ngmxueL_Ez58sl81Xp8pQq-nH3o2tZ_SAuZyb6EDaflIPI2A"/>
          <p:cNvPicPr/>
          <p:nvPr/>
        </p:nvPicPr>
        <p:blipFill>
          <a:blip r:embed="rId1"/>
          <a:stretch/>
        </p:blipFill>
        <p:spPr>
          <a:xfrm>
            <a:off x="6429240" y="2786040"/>
            <a:ext cx="23720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BSOR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1727280" y="2781360"/>
            <a:ext cx="1344600" cy="1871640"/>
            <a:chOff x="1727280" y="2781360"/>
            <a:chExt cx="1344600" cy="1871640"/>
          </a:xfrm>
        </p:grpSpPr>
        <p:sp>
          <p:nvSpPr>
            <p:cNvPr id="78" name="Freeform 6"/>
            <p:cNvSpPr/>
            <p:nvPr/>
          </p:nvSpPr>
          <p:spPr>
            <a:xfrm>
              <a:off x="1727280" y="2781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"/>
            <p:cNvSpPr/>
            <p:nvPr/>
          </p:nvSpPr>
          <p:spPr>
            <a:xfrm>
              <a:off x="1990800" y="2789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8"/>
          <p:cNvSpPr/>
          <p:nvPr/>
        </p:nvSpPr>
        <p:spPr>
          <a:xfrm rot="19789800">
            <a:off x="1511640" y="4436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2484000" y="2205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826920" y="177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ANd9GcSKID_fqN0x19q6BOqvGOSMTNEoSZqVAzYg8lIN-PnuUV8RjeQJ"/>
          <p:cNvPicPr/>
          <p:nvPr/>
        </p:nvPicPr>
        <p:blipFill>
          <a:blip r:embed="rId1"/>
          <a:stretch/>
        </p:blipFill>
        <p:spPr>
          <a:xfrm>
            <a:off x="5435640" y="2276640"/>
            <a:ext cx="2401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ELIMINA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2627280" y="285264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211640" y="292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700360" y="371628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500720" y="3573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3780000" y="530064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580000" y="5229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érdida de líquid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2484360" y="1700280"/>
            <a:ext cx="1582920" cy="431640"/>
          </a:xfrm>
          <a:prstGeom prst="rightArrow">
            <a:avLst>
              <a:gd name="adj1" fmla="val 50000"/>
              <a:gd name="adj2" fmla="val 916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284720" y="170028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 - REGU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157676"/>
              </a:gs>
              <a:gs pos="50000">
                <a:srgbClr val="2dffff"/>
              </a:gs>
              <a:gs pos="100000">
                <a:srgbClr val="1576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REGULACION DE LA REABSORCION DE SODIO EN 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324000" y="1341360"/>
            <a:ext cx="32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324000" y="3068640"/>
            <a:ext cx="32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250920" y="4724280"/>
            <a:ext cx="32400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ATRIUR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427640" y="1484280"/>
            <a:ext cx="4608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.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3419640" y="1484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3780000" y="1701720"/>
            <a:ext cx="64908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3059280" y="2637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3276720" y="2637000"/>
            <a:ext cx="649080" cy="50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580000" y="3357720"/>
            <a:ext cx="3348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T.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3635280" y="3573360"/>
            <a:ext cx="936720" cy="360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4572000" y="3357720"/>
            <a:ext cx="360360" cy="863280"/>
          </a:xfrm>
          <a:prstGeom prst="upArrow">
            <a:avLst>
              <a:gd name="adj1" fmla="val 50000"/>
              <a:gd name="adj2" fmla="val 59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4932360" y="357336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4427640" y="522936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TRACION GLOMER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3348000" y="4940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3708360" y="515772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3348000" y="5732640"/>
            <a:ext cx="647640" cy="28872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3708360" y="5950080"/>
            <a:ext cx="649440" cy="503280"/>
          </a:xfrm>
          <a:prstGeom prst="ellipse">
            <a:avLst/>
          </a:pr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427640" y="609300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BSORCION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0" y="5157720"/>
            <a:ext cx="324000" cy="1511280"/>
          </a:xfrm>
          <a:prstGeom prst="downArrow">
            <a:avLst>
              <a:gd name="adj1" fmla="val 50000"/>
              <a:gd name="adj2" fmla="val 11661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0" y="1484280"/>
            <a:ext cx="324000" cy="2665440"/>
          </a:xfrm>
          <a:prstGeom prst="upArrow">
            <a:avLst>
              <a:gd name="adj1" fmla="val 50000"/>
              <a:gd name="adj2" fmla="val 205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0:07:45Z</dcterms:created>
  <dc:creator>Usuario</dc:creator>
  <dc:description/>
  <dc:language>en-US</dc:language>
  <cp:lastModifiedBy>ali y facu</cp:lastModifiedBy>
  <dcterms:modified xsi:type="dcterms:W3CDTF">2014-12-14T15:06:09Z</dcterms:modified>
  <cp:revision>63</cp:revision>
  <dc:subject/>
  <dc:title>BIOELEMENTOS</dc:title>
</cp:coreProperties>
</file>